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107-6E3C-4D63-8F70-AB326EBD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822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83480"/>
            <a:ext cx="822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36A-BE4D-4BBC-8557-48AFD573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8348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AE6F-6659-48DD-BA8B-35CB841B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4272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4272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8348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8348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83480"/>
            <a:ext cx="264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29D-CC1E-4124-ABF7-245F4A15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4272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7F4-8DA2-4482-AFA8-24288020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4381-EF13-4CFB-AC55-51F95C2D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40158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42720"/>
            <a:ext cx="40158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0E12-8B08-454B-87CD-8E02EC9D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75D-2F22-461D-8DF2-4DC3B87C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920" y="999720"/>
            <a:ext cx="8858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E36-5069-4328-8697-022143C1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42720"/>
            <a:ext cx="40158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8348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7427-E4E0-42C0-AC1E-70365855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40158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8ED1-DB1A-4313-BE71-AF76E415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42720"/>
            <a:ext cx="4015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83480"/>
            <a:ext cx="82296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AFE8-3097-41DB-83EB-B6E28CA3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4272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1" marL="668520" indent="-2570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2" marL="1028520" indent="-2055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3" marL="1440000" indent="-20556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4" marL="1851480" indent="-20556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7ED9-215F-4E9E-9FBE-EC132F376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5490" t="6661" r="4995" b="7334"/>
          <a:stretch/>
        </p:blipFill>
        <p:spPr>
          <a:xfrm>
            <a:off x="142920" y="115920"/>
            <a:ext cx="8893080" cy="661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10253f"/>
                </a:solidFill>
                <a:latin typeface="Calibri"/>
              </a:rPr>
              <a:t>La </a:t>
            </a:r>
            <a:r>
              <a:rPr b="0" i="1" lang="it-IT" sz="4200" spc="-1" strike="noStrike">
                <a:solidFill>
                  <a:srgbClr val="10253f"/>
                </a:solidFill>
                <a:latin typeface="Calibri"/>
              </a:rPr>
              <a:t>“Supply Chain” </a:t>
            </a:r>
            <a:r>
              <a:rPr b="0" lang="it-IT" sz="4200" spc="-1" strike="noStrike">
                <a:solidFill>
                  <a:srgbClr val="10253f"/>
                </a:solidFill>
                <a:latin typeface="Calibri"/>
              </a:rPr>
              <a:t>della Sicurezza</a:t>
            </a:r>
            <a:endParaRPr b="0" lang="en-US" sz="42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2560" y="1844640"/>
            <a:ext cx="7777080" cy="520560"/>
          </a:xfrm>
          <a:prstGeom prst="rect">
            <a:avLst/>
          </a:prstGeom>
          <a:solidFill>
            <a:srgbClr val="ff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LE BEST PRACTICES IN ANSALDOBR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2997360"/>
            <a:ext cx="5329080" cy="1488600"/>
          </a:xfrm>
          <a:prstGeom prst="rect">
            <a:avLst/>
          </a:prstGeom>
          <a:solidFill>
            <a:srgbClr val="ffcc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Resp. Sicurezza e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ANSALDO</a:t>
            </a:r>
            <a:r>
              <a:rPr b="1" lang="it-IT" sz="2400" spc="-1" strike="noStrike">
                <a:solidFill>
                  <a:srgbClr val="ff3300"/>
                </a:solidFill>
                <a:latin typeface="Comic Sans MS"/>
              </a:rPr>
              <a:t>BREDA</a:t>
            </a: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 S.P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Comic Sans MS"/>
              </a:rPr>
              <a:t>ing. Giuseppe Grazi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31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CLUSIONI E RISULTATI OTTENUTI</a:t>
            </a:r>
            <a:endParaRPr b="0" lang="en-US" sz="2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Anno: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2007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2008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9900"/>
                </a:solidFill>
                <a:latin typeface="Comic Sans MS"/>
              </a:rPr>
              <a:t>2009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N° infortuni: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100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99"/>
                </a:solidFill>
                <a:latin typeface="Comic Sans MS"/>
              </a:rPr>
              <a:t>54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    </a:t>
            </a:r>
            <a:r>
              <a:rPr b="1" lang="it-IT" sz="3200" spc="-1" strike="noStrike">
                <a:solidFill>
                  <a:srgbClr val="009900"/>
                </a:solidFill>
                <a:latin typeface="Comic Sans MS"/>
              </a:rPr>
              <a:t>47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Giorni infortuni:2077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640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1" lang="it-IT" sz="3200" spc="-1" strike="noStrike">
                <a:solidFill>
                  <a:srgbClr val="009900"/>
                </a:solidFill>
                <a:latin typeface="Comic Sans MS"/>
              </a:rPr>
              <a:t>605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RIDUZIONE TASSO INAIL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4581360"/>
            <a:ext cx="82296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GRAZIE PER L’ATTEN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graziuso.giuseppe@ansaldobreda.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39800" y="3013200"/>
            <a:ext cx="228600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lta Veloc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205360"/>
            <a:ext cx="3851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Comic Sans MS"/>
              </a:rPr>
              <a:t>VEICOLI FERROVIAR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7080" y="4569120"/>
            <a:ext cx="228600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Locomo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6400" y="3730680"/>
            <a:ext cx="228600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er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680" y="5505840"/>
            <a:ext cx="283356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Regionale / Suburb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62280" y="1284120"/>
            <a:ext cx="548640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I NOSTRI PRODO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46520" y="2205000"/>
            <a:ext cx="4113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Comic Sans MS"/>
              </a:rPr>
              <a:t>VEICOLI TRASPORTO URBA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9040" y="2934000"/>
            <a:ext cx="283356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ram / Metro Legg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79920" y="3605400"/>
            <a:ext cx="283392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etropolit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60920" y="4327920"/>
            <a:ext cx="281952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etro Automati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3240" y="5197680"/>
            <a:ext cx="2833560" cy="36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3429000"/>
                <a:tab algn="ct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Metropolitane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98680" y="4024440"/>
            <a:ext cx="183204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112536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LE PRINCIPALI COMMESSE IN 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74560" y="2000160"/>
          <a:ext cx="7828200" cy="3567240"/>
        </p:xfrm>
        <a:graphic>
          <a:graphicData uri="http://schemas.openxmlformats.org/drawingml/2006/table">
            <a:tbl>
              <a:tblPr/>
              <a:tblGrid>
                <a:gridCol w="1874880"/>
                <a:gridCol w="5953320"/>
              </a:tblGrid>
              <a:tr h="555840"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IN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MMES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112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Moto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IRIO, TAF, MADRID BITENSIONE, E 403, CIRCUMVESUVIANA, BELGIO /OL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256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arre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ELGIO /OLANDA, E403, SIRIO, METROMIL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112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lettro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403, TSR, RATP, SIRIO, TAF, LOS ANGELES, E656, BELGIO/OLA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320">
                <a:tc>
                  <a:txBody>
                    <a:bodyPr lIns="87120" rIns="8712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Veic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7120" rIns="871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 403, CIRCUMVESUVIANA, ETR500, METROBRESCIA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120" marR="871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907920"/>
            <a:ext cx="7774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LE LINEE PRODUTTIVE</a:t>
            </a:r>
            <a:endParaRPr b="0" lang="en-US" sz="2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3710160" y="1403280"/>
            <a:ext cx="150156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Comic Sans MS"/>
              </a:rPr>
              <a:t>OFFICIN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5840" y="2567160"/>
            <a:ext cx="7988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Moto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09880" y="2565360"/>
            <a:ext cx="9302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Carrell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12920" y="3286080"/>
            <a:ext cx="9316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Meccan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08400" y="3286080"/>
            <a:ext cx="11970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Carpenter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12920" y="3935520"/>
            <a:ext cx="9316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Montagg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08400" y="3862440"/>
            <a:ext cx="99864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Meccan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08400" y="4510080"/>
            <a:ext cx="10634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Allestimen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05360" y="2565360"/>
            <a:ext cx="9302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Elettronic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29520" y="2565360"/>
            <a:ext cx="9316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Veicol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9040" y="3213000"/>
            <a:ext cx="9316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Taglio cav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9040" y="3645000"/>
            <a:ext cx="12636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ff"/>
                </a:solidFill>
                <a:latin typeface="Comic Sans MS"/>
              </a:rPr>
              <a:t>Assembl. Apparati elettrici urban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64360" y="3213000"/>
            <a:ext cx="11955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Assemblagg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69040" y="4508640"/>
            <a:ext cx="13968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ff"/>
                </a:solidFill>
                <a:latin typeface="Comic Sans MS"/>
              </a:rPr>
              <a:t>Assembl. Apparati elettrici locomo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69040" y="5516640"/>
            <a:ext cx="13968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ff"/>
                </a:solidFill>
                <a:latin typeface="Comic Sans MS"/>
              </a:rPr>
              <a:t>Assembl. Apparati elettrici alta velocit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69040" y="6453360"/>
            <a:ext cx="11952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Comic Sans MS"/>
              </a:rPr>
              <a:t>Riparazion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14360" y="2041560"/>
            <a:ext cx="638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76440" y="2041560"/>
            <a:ext cx="180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14360" y="2041560"/>
            <a:ext cx="180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69040" y="2041560"/>
            <a:ext cx="144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96080" y="204156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9400" y="28544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37120" y="2854440"/>
            <a:ext cx="0" cy="37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49400" y="343044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9400" y="407844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3080" y="28544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3080" y="3430440"/>
            <a:ext cx="26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3080" y="4005360"/>
            <a:ext cx="26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3080" y="4654440"/>
            <a:ext cx="26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96080" y="28544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37120" y="335772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37120" y="393372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7120" y="487044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37120" y="587844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37120" y="659772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00720" y="33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66000" y="335772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632640" y="393372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765840" y="479736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765840" y="580536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1" action="ppaction://hlinksldjump"/>
          </p:cNvPr>
          <p:cNvPicPr/>
          <p:nvPr/>
        </p:nvPicPr>
        <p:blipFill>
          <a:blip r:embed="rId2"/>
          <a:srcRect l="16791" t="0" r="0" b="8043"/>
          <a:stretch/>
        </p:blipFill>
        <p:spPr>
          <a:xfrm>
            <a:off x="7164360" y="4078440"/>
            <a:ext cx="1249560" cy="911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644920" y="4870440"/>
            <a:ext cx="1508040" cy="878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982800" y="4365720"/>
            <a:ext cx="1176120" cy="939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3780000" y="5734080"/>
            <a:ext cx="1130040" cy="917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</p:pic>
      <p:sp>
        <p:nvSpPr>
          <p:cNvPr id="106" name=""/>
          <p:cNvSpPr/>
          <p:nvPr/>
        </p:nvSpPr>
        <p:spPr>
          <a:xfrm>
            <a:off x="4343400" y="185580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OBIETTIVI RIDUZIONE DEL NUMERO DEGLI INFORTUNI</a:t>
            </a:r>
            <a:endParaRPr b="0" lang="en-US" sz="2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4960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ANALISI DEGLI INFORTUNI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Anno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2007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2008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2009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N° infortuni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100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 54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    ?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Giorni infortuni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2077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 640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    ?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920" y="1125000"/>
            <a:ext cx="88581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NALISI DETTAGLIATA INFORTUNI/INCIDENTI</a:t>
            </a:r>
            <a:endParaRPr b="0" lang="en-US" sz="2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628640"/>
            <a:ext cx="856908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E’ STATA EFFETTUATA UN’ANALISI DETTAGLIATA ED IMMEDIATA NON SOLO DEGLI INFORTUNI, MA ANCHE DEGLI INCIDENTI (MANCATI INFORTUN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L’ANALISI E’ STATA CONDOTTA DALL’ENTE SICUREZZA E AMBIENTE IN STRETTA COLLABORAZIONE CON I PREPOSTI DI REPAR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E’ STATO ISTITUITO UN MODELLO PER LE INDAGINI DEGLI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Comic Sans MS"/>
              </a:rPr>
              <a:t>INFORTUNI/INCIDENTI,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 DOVE IL PREPOSTO DEVE RIPORTARE LA DESCRIZIONE DELL’ACCADUTO E FIRMARE TALE DOCU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404640"/>
            <a:ext cx="2125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AZION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69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RESPONSABILIZZAZIONE PREPOSTI</a:t>
            </a:r>
            <a:endParaRPr b="0" lang="en-US" sz="2800" spc="-1" strike="noStrike">
              <a:solidFill>
                <a:srgbClr val="ff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PECIFICO CORSO DI FORMAZIONE SU RUOLI COMPITI E RESPONSABILITA’ DEI PREPOSTI.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ENTENZE DELLA CASSAZIONE CHE COINVOLGONO I PREPOSTI COMMENTATE DAGLI ISPETTORI DELLA ASL;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PROIEZIONE DI FILMATI E IMMAGINI DEI REPARTI PRODUTTIVI CON EVIDENZA DELLE IMPERFEZIONI.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50560" y="259920"/>
            <a:ext cx="1834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AZIONE 2</a:t>
            </a:r>
            <a:endParaRPr b="0" lang="en-US" sz="20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5300640"/>
            <a:ext cx="7129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PRESA COSCIENZA DA PARTE DEI RESP. E PREPOSTI DELLE PROPRIE RESPONSA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920" y="999720"/>
            <a:ext cx="885816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IARIO PREVENZIONALE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E’ STATO MESSO A DISPOSIZIONE DEI PREPOSTI UNO STRUMENTO DI VERIFICA/CONTROLLO</a:t>
            </a:r>
            <a:endParaRPr b="0" lang="en-US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260280"/>
            <a:ext cx="18349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AZION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920" y="1000080"/>
            <a:ext cx="885816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FORMAZIONE ON THE JOB</a:t>
            </a:r>
            <a:endParaRPr b="0" lang="en-US" sz="28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E’ STATA EFFETTUATA UNA  MASSICCIA CAMPAGNA DI INFORMAZIONE E FORMAZIONE CHE HA COINVOLTO IL MANAGEMENT, I RESPONSABILI, I PREPOSTI, GLI RLS E TUTTO IL PERSONALE;</a:t>
            </a: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3716280"/>
            <a:ext cx="5040360" cy="19962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NO STATI EFFETTUATI UNA SERIE DI INTERVENTI FORMATIVI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N THE JOB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, SIA DA PARTE DELL’ENTE SICUREZZA SIA DA PARTE DEI PREPOS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084720" y="3429000"/>
            <a:ext cx="2448000" cy="1836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260280"/>
            <a:ext cx="18349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Comic Sans MS"/>
              </a:rPr>
              <a:t>AZION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7:07:23Z</dcterms:created>
  <dc:creator>Ing. Giuseppe Graziuso</dc:creator>
  <dc:description/>
  <dc:language>en-US</dc:language>
  <cp:lastModifiedBy>Graziuso Giuseppe</cp:lastModifiedBy>
  <dcterms:modified xsi:type="dcterms:W3CDTF">2010-01-20T21:26:55Z</dcterms:modified>
  <cp:revision>18</cp:revision>
  <dc:subject/>
  <dc:title>Convegno Città della Scienza</dc:title>
</cp:coreProperties>
</file>